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838-78CC-4EFF-85C9-0F38B34B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8A5-820A-4957-B209-8422A164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DF7-BED0-43BC-AB36-536B4D7B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81C-83D7-4EB7-B317-27EF74EA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D899-0709-4C58-A479-957F4674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21AF-0B90-4576-8372-FC13EE70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3EE8-9273-4545-BF94-839D6154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B62-7535-4E65-BA71-95F9D12D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45C-007B-459F-96B8-99AD8EE3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D6B-9C4B-4168-94B5-363F4754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AA78-B448-45BE-99CC-C1773201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205-4E03-4692-9BC4-5E0A7D26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49DA-C1AB-402B-A2E7-F4A764C3A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, Green and Blue are the primary colors of light.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can combine to make most other col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Promar Colors rgb"/>
          <p:cNvPicPr/>
          <p:nvPr/>
        </p:nvPicPr>
        <p:blipFill>
          <a:blip r:embed="rId1"/>
          <a:stretch/>
        </p:blipFill>
        <p:spPr>
          <a:xfrm>
            <a:off x="2209680" y="2590920"/>
            <a:ext cx="4008600" cy="33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mary colors of Pigments (paints. Dyes et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be blue, yellow and red (before 195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s cyan, yellow and mag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nd blue are not primary, because we now have pigments to make them from CM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MY ink can be used as the primary pigment palette to make secondary RG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cmy Primary Colors"/>
          <p:cNvPicPr/>
          <p:nvPr/>
        </p:nvPicPr>
        <p:blipFill>
          <a:blip r:embed="rId1"/>
          <a:stretch/>
        </p:blipFill>
        <p:spPr>
          <a:xfrm>
            <a:off x="1752480" y="1143000"/>
            <a:ext cx="4114800" cy="3390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80880" y="4575240"/>
            <a:ext cx="8305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GB can then make secondary co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GB ink could never make a good cyan, magenta or yellow, so CMY ink serves as a superior set of primary colors over the traditional RGB. It’s a lighter palett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-c6578d"/>
          <p:cNvPicPr/>
          <p:nvPr/>
        </p:nvPicPr>
        <p:blipFill>
          <a:blip r:embed="rId2"/>
          <a:stretch/>
        </p:blipFill>
        <p:spPr>
          <a:xfrm>
            <a:off x="7086600" y="1295280"/>
            <a:ext cx="17780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 colored beams of light firing in your monitor or TV.  Rather the screen is coated with 3 layer of phosphorescent powder per pixel; each if hit by an electron beam glows either red, green or b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rgbScreenComp"/>
          <p:cNvPicPr/>
          <p:nvPr/>
        </p:nvPicPr>
        <p:blipFill>
          <a:blip r:embed="rId1"/>
          <a:stretch/>
        </p:blipFill>
        <p:spPr>
          <a:xfrm>
            <a:off x="990720" y="2971800"/>
            <a:ext cx="694692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e all hav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GB monito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sing additive color mix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MY print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sing subtractive color mixing. 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is a conversion code to make the 3 color pixel combinations print the equivalent 3 color ink applications so images print as they are on the machi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ngs appear the color the reflect. They absorb all other col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124080" y="4572000"/>
            <a:ext cx="1219320" cy="9907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838080" y="32004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YGB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934320" y="457200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105520" y="4572000"/>
            <a:ext cx="121896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600200" y="4572000"/>
            <a:ext cx="12193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0:20:23Z</dcterms:created>
  <dc:creator>Michael Francesco</dc:creator>
  <dc:description/>
  <dc:language>en-US</dc:language>
  <cp:lastModifiedBy>"%username%"</cp:lastModifiedBy>
  <dcterms:modified xsi:type="dcterms:W3CDTF">2014-04-21T18:14:12Z</dcterms:modified>
  <cp:revision>10</cp:revision>
  <dc:subject/>
  <dc:title>CMY ink can be used as the primary pigment palette to make secondary RGB</dc:title>
</cp:coreProperties>
</file>